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4846300" cy="10504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1EF-6C4E-49B6-B5D8-520E99328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1336032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6071400"/>
            <a:ext cx="1336032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1F3-B223-4DB6-9FE8-7E9F50AD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8916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6ADB-755A-4A9D-9D58-AA661AF7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0320" y="245124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777240" y="245124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607140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260320" y="607140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777240" y="607140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B8F2-422A-433D-9A9B-127F4148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2451240"/>
            <a:ext cx="13360320" cy="69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AC8F-F04F-43C7-9503-BE4B7ACE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1336032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9DE5-B863-439E-BA3D-3AACE084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9E8-5DC4-4B00-A607-EEF25E2C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95D6-0AB4-4FA5-AE04-F637CF0C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420840"/>
            <a:ext cx="13360320" cy="81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C5D6-B5DC-4420-90A4-D3E3DA9C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26B4-1A61-4EC6-AFC1-A64B1F79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58916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A5D4-961F-4BA2-85E0-FD781A8E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6071400"/>
            <a:ext cx="1336032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C31E-A99A-452E-9728-F47D0499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2451240"/>
            <a:ext cx="1336032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9564840"/>
            <a:ext cx="34639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72040" y="9564840"/>
            <a:ext cx="47023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639440" y="9564840"/>
            <a:ext cx="34639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0C4E-89F3-46DF-8219-0D6CD209D5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3:05:53Z</dcterms:created>
  <dc:creator>Martin</dc:creator>
  <dc:description/>
  <dc:language>en-US</dc:language>
  <cp:lastModifiedBy>Martin</cp:lastModifiedBy>
  <dcterms:modified xsi:type="dcterms:W3CDTF">2013-10-30T13:05:56Z</dcterms:modified>
  <cp:revision>1</cp:revision>
  <dc:subject/>
  <dc:title>Slide 1</dc:title>
</cp:coreProperties>
</file>