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4846300" cy="105044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7134-DE28-488A-8E4A-42433BEF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504E-CC21-4B2E-B511-D1E6BA56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6746-4DC5-4928-B11C-7D84BA0A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032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777240" y="245124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26032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777240" y="6071400"/>
            <a:ext cx="430164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586-DD59-4AF5-BCA0-5F1A76DD1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9510-8C51-43FA-A9CA-1BDAD199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4AE2-7E83-4037-8B89-4EA11292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0FF7-6126-4419-B7DE-31687BCF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4D8-A796-4AF4-8472-2234973E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420840"/>
            <a:ext cx="13360320" cy="81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6259-C146-4693-BA9F-3F05FFD9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2A5-973B-4216-A6B2-1A584CB4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589160" y="607140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3D2-C27C-4D7B-8C36-88047DA3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589160" y="2451240"/>
            <a:ext cx="651960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6071400"/>
            <a:ext cx="13360320" cy="330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F87-698D-4FEE-BDE1-5A548F54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420840"/>
            <a:ext cx="1336032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2451240"/>
            <a:ext cx="13360320" cy="69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72040" y="9564840"/>
            <a:ext cx="47023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639440" y="9564840"/>
            <a:ext cx="34639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AD649-B4C4-456F-B00A-ADC9683FAA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846400" cy="1050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13:05:46Z</dcterms:created>
  <dc:creator>Martin</dc:creator>
  <dc:description/>
  <dc:language>en-US</dc:language>
  <cp:lastModifiedBy>Martin</cp:lastModifiedBy>
  <dcterms:modified xsi:type="dcterms:W3CDTF">2013-10-30T13:05:51Z</dcterms:modified>
  <cp:revision>1</cp:revision>
  <dc:subject/>
  <dc:title>Slide 1</dc:title>
</cp:coreProperties>
</file>