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4846300" cy="10504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6EBC-76EA-403D-A9BC-4B533A8D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1336032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6071400"/>
            <a:ext cx="1336032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0B8E-C9A5-46BB-BF77-DE224C295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8916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5588-90FB-495F-9933-C29AD6DA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0320" y="245124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777240" y="245124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607140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260320" y="607140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777240" y="607140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DBE9-1532-4D2B-8F04-22CA7690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2451240"/>
            <a:ext cx="13360320" cy="69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D53-9487-47CA-B53E-5A1D59B9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1336032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4B97-5AF6-4D79-B3FB-C070F521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5C5-1FE3-49A2-96FC-A0822C98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7C4D-D5EB-4873-BFFA-8F661602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420840"/>
            <a:ext cx="13360320" cy="81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FA70-2CDA-483B-A384-12D48DFC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BA9F-150E-4BFE-9CA5-7B1F76F4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58916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D4D9-69F1-4CD6-B2BC-284E3E8A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6071400"/>
            <a:ext cx="1336032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8398-2B33-45D4-A8E2-5C8F55D0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2451240"/>
            <a:ext cx="1336032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9564840"/>
            <a:ext cx="34639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72040" y="9564840"/>
            <a:ext cx="47023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639440" y="9564840"/>
            <a:ext cx="34639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CE75-19AE-4530-80DD-82E5A4022F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13:06:00Z</dcterms:created>
  <dc:creator>Martin</dc:creator>
  <dc:description/>
  <dc:language>en-US</dc:language>
  <cp:lastModifiedBy>Martin</cp:lastModifiedBy>
  <dcterms:modified xsi:type="dcterms:W3CDTF">2013-10-30T13:06:06Z</dcterms:modified>
  <cp:revision>1</cp:revision>
  <dc:subject/>
  <dc:title>Slide 1</dc:title>
</cp:coreProperties>
</file>